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57074"/>
        <c:axId val="21826813"/>
      </c:barChart>
      <c:catAx>
        <c:axId val="57157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26813"/>
        <c:crosses val="autoZero"/>
        <c:auto val="1"/>
        <c:lblAlgn val="ctr"/>
        <c:lblOffset val="100"/>
        <c:noMultiLvlLbl val="0"/>
      </c:catAx>
      <c:valAx>
        <c:axId val="21826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57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8EB-A71E-4F79-A4B1-5F5233D5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CE1-15C5-49DB-9205-A2ABE036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34C-556F-43AA-BF6C-D6E87102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3FA-C071-491B-9059-9FC61177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7AE-5DCA-444A-AB09-50DB7F9B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DED-F5DB-4EEC-87E0-0222C152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EC6-C2B8-4083-B73F-13F3E82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EEE-5426-4D21-940E-8E88D7CE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401-0899-469D-B719-EAAEACCD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C1D-555B-4945-A217-769728C8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3BD-5D09-4568-BD09-1640499F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402-01D7-4CA5-8381-036A4F91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12081-E0B6-49CD-AD2F-A744E966A9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