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092084"/>
        <c:axId val="30024358"/>
      </c:barChart>
      <c:catAx>
        <c:axId val="240920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24358"/>
        <c:crosses val="autoZero"/>
        <c:auto val="1"/>
        <c:lblAlgn val="ctr"/>
        <c:lblOffset val="100"/>
        <c:noMultiLvlLbl val="0"/>
      </c:catAx>
      <c:valAx>
        <c:axId val="300243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920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B9F3-D910-4C3C-9E49-B0FCD01E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5808-F639-49D9-993A-2F01A490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D029-0F3B-42CE-8CE0-E22E899A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057-3FE2-4411-9699-460B8DAD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EFA-D5CD-4342-9DD4-620EC8E7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8D3F-2062-4C2D-BC4C-ADD6C461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7174-4A01-4606-BBD1-44E6630F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CD1F-2643-4A65-B94B-BCE719C9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AF5E-C896-42B9-9C43-9A7C1B4D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245E-85BF-454C-8E6A-8ED3C04F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7283-A88E-48C3-83FD-057C23EB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BB2B-819E-46F9-9B0F-151441CB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EE461-5739-4F1F-A46B-EF5C2C26E1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