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65846"/>
        <c:axId val="40100336"/>
      </c:barChart>
      <c:catAx>
        <c:axId val="69165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00336"/>
        <c:crosses val="autoZero"/>
        <c:auto val="1"/>
        <c:lblAlgn val="ctr"/>
        <c:lblOffset val="100"/>
        <c:noMultiLvlLbl val="0"/>
      </c:catAx>
      <c:valAx>
        <c:axId val="40100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65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789-1B1D-4360-A79C-FE69ECF9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8E9-7EA2-4B14-979D-2DEC2032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00B-7094-4812-8D9F-C10F7ECD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F33-14E5-4CA3-A0AE-A33656CA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C6A-362C-4858-92DC-53AA4AC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4AC-05F7-4F18-9210-9E0349B3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390-28DC-4E8D-90D9-8580BF13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F97-2BE3-4FB0-B9E0-43AAD699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617-8EEC-4AC8-AA94-508E66B6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D21-3929-48D6-A91A-3251CBCE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2B9-B443-493E-9D73-9422ECD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DE4-2B5F-4E71-91D5-0A0A9E0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315E5-02AA-4AB6-ABD7-C132BB0EB4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