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51853"/>
        <c:axId val="12628852"/>
      </c:barChart>
      <c:catAx>
        <c:axId val="3851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28852"/>
        <c:crosses val="autoZero"/>
        <c:auto val="1"/>
        <c:lblAlgn val="ctr"/>
        <c:lblOffset val="100"/>
        <c:noMultiLvlLbl val="0"/>
      </c:catAx>
      <c:valAx>
        <c:axId val="12628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1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242-5097-42BF-94D7-90EDC6E6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1A2-FE7A-4EAD-ACAB-4EBF5FC6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1B8-4527-48D7-9F55-948B9892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109-4F27-43D2-8101-FF3FFDF8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F64A-4C51-4218-83CD-ABF525D4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DE05-4785-4AE7-8E0D-76A41A2C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C7D-8E63-4C3D-9318-D1BB48A7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754-E144-4032-ACE5-AD306380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80B-5ABF-43A3-8069-A87D24EF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C84-81EC-4DDD-B46C-4AADF60F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1ED-0CED-4FEB-9EDC-AED393C8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BC3-B998-437E-96EB-41B0B612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7C49D-056D-4D5E-877F-5DD72ADA5C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