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3648"/>
        <c:axId val="10929001"/>
      </c:barChart>
      <c:catAx>
        <c:axId val="9173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29001"/>
        <c:crosses val="autoZero"/>
        <c:auto val="1"/>
        <c:lblAlgn val="ctr"/>
        <c:lblOffset val="100"/>
        <c:noMultiLvlLbl val="0"/>
      </c:catAx>
      <c:valAx>
        <c:axId val="10929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3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D39-7BB4-4CD6-B828-91E34768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BC9-A798-4A60-BEFF-873D7F62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FEE-491A-41FE-8DEB-B9E4600B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06E-083F-4481-B9B9-B94DE9DD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568-364E-4D49-A325-92AB6992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370-9369-473C-89DB-952230A2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571-F23E-4D35-B58E-7C6B9204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B68-5464-4C46-9D5E-8F9CD166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C2A-B83C-40F6-A5C0-F7A46733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7E5-01F8-485A-A659-54F3CCD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A12-AE8F-463A-8628-500A161C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949-A5A2-4414-8720-2B6C3C56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8FF66-FB09-4B10-998F-146BCE7BCE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