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08802"/>
        <c:axId val="14194814"/>
      </c:barChart>
      <c:catAx>
        <c:axId val="54108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94814"/>
        <c:crosses val="autoZero"/>
        <c:auto val="1"/>
        <c:lblAlgn val="ctr"/>
        <c:lblOffset val="100"/>
        <c:noMultiLvlLbl val="0"/>
      </c:catAx>
      <c:valAx>
        <c:axId val="141948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08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987-6C61-4580-9AC9-702459E4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ECF-94B8-482B-A0E5-51CC160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366-ABCE-443D-BA7B-10C73466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07B9-B8F4-4AF3-AA9A-75675306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7E8-4EAF-425C-986D-718F07C1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018-5656-4346-9382-5B49E9BD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51D-9DA9-4C0F-A036-D4A18B8C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DB26-1B39-455D-B3B2-C5FDF42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2ED9-D61F-4B79-B823-5FC5DEF3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59B0-9626-40F4-BC50-ACA3C289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703F-DCA6-4970-8F76-AB686208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6F9-3314-4340-B677-B861C18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FC1B0A-AE40-40CC-A591-95785F066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