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33440"/>
        <c:axId val="31186131"/>
      </c:barChart>
      <c:catAx>
        <c:axId val="95833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86131"/>
        <c:crosses val="autoZero"/>
        <c:auto val="1"/>
        <c:lblAlgn val="ctr"/>
        <c:lblOffset val="100"/>
        <c:noMultiLvlLbl val="0"/>
      </c:catAx>
      <c:valAx>
        <c:axId val="3118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3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184-011E-4B8E-81CE-2ACBF843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D6A-2BBB-4E8C-8368-2BA06B62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B93-9D72-4910-A9F1-7921836D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AC1-7E73-46C0-A556-306FDF8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7A2-FECF-43F3-8A3D-87ED2E5B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95E-C9AB-4562-B6BC-A219452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B44-A1EE-4EF3-98BF-4B2AA7B7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D5F-6960-4925-BCAA-D184455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2B8-281A-4E07-9A9F-72797AED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94C-721E-4E8B-B96D-5D61C39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D53-B17E-430E-9A04-561A722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2E8-70AD-4516-BD24-74F38AD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F4F0C-B732-408A-85E8-51F5B56447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