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90585"/>
        <c:axId val="90513463"/>
      </c:barChart>
      <c:catAx>
        <c:axId val="581905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13463"/>
        <c:crosses val="autoZero"/>
        <c:auto val="1"/>
        <c:lblAlgn val="ctr"/>
        <c:lblOffset val="100"/>
        <c:noMultiLvlLbl val="0"/>
      </c:catAx>
      <c:valAx>
        <c:axId val="90513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905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73F4-F9F4-41C0-8D35-64B1AE32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677-83C9-404C-B565-E581AFB1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768-B828-455E-8B0A-7DED60F7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98F-B9FC-4175-8B66-5FA8AA76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AEE-7A00-41D6-9FE5-B39DB45F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84A-8984-4490-A374-BEA3468F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318-AA9E-4753-A437-60831019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9160-EEBE-4FE7-866A-7B2734E8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FAC-A877-40A7-853D-7C54C516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4E2-0262-4823-BDDF-A7B6C2C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10AE-3AA8-4C04-A75F-9D60A507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F1E3-F8C8-4759-AEDB-2C72BFF4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CFC7A-B1AA-4FB6-A757-F4128421AE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