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91557"/>
        <c:axId val="80551097"/>
      </c:barChart>
      <c:catAx>
        <c:axId val="10691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51097"/>
        <c:crosses val="autoZero"/>
        <c:auto val="1"/>
        <c:lblAlgn val="ctr"/>
        <c:lblOffset val="100"/>
        <c:noMultiLvlLbl val="0"/>
      </c:catAx>
      <c:valAx>
        <c:axId val="80551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91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A85-373D-44E3-8A06-F2472E8C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700-B99C-4C45-A57A-10B0B87F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AE1-9B81-4662-A5E7-73560202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391-E8F7-4ED1-95AE-AC27ED00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C6F-0D45-45E8-9427-39DE10E2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6B2-AC98-422D-A06D-AF72528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8E9-00DE-47A3-936C-1BF8030C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8EA-113D-42B9-A9A6-A52DDC6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B86-6B98-4383-A74E-A453CB69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B26-5BAB-4AAE-A045-46558E9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4C6-8A3C-44D9-B290-6BFE8F2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F28-A0B9-4FE3-8F46-86B6F714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5AB63-D356-48BF-9B92-5143C7D15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