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658"/>
        <c:axId val="82281101"/>
      </c:barChart>
      <c:catAx>
        <c:axId val="8847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1101"/>
        <c:crosses val="autoZero"/>
        <c:auto val="1"/>
        <c:lblAlgn val="ctr"/>
        <c:lblOffset val="100"/>
        <c:noMultiLvlLbl val="0"/>
      </c:catAx>
      <c:valAx>
        <c:axId val="82281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488-F7BC-4BE7-AF9C-294A1683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8B0-3AF9-4C67-B49A-4DED6A6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8A9-67B3-4354-8E80-8ADDD051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5D8-3662-49FE-B34F-41886BBE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E16-EE41-4B4B-BC23-56F3CA5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4DC-2D3D-4539-B911-0C87848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FD4-138A-4CA3-A750-D536712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048-DA2A-4779-87D3-AA1B455A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E90-A56B-4A46-AD93-BB7E367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5F5-AF26-4F12-BF8B-9AD0B29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8D0-35DF-4ED9-AD9F-29E8DD9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B7E-3DC4-42BA-A14B-5C88621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D157-BA83-491D-832D-896A6FFDA1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