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94811"/>
        <c:axId val="21671390"/>
      </c:barChart>
      <c:catAx>
        <c:axId val="69094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71390"/>
        <c:crosses val="autoZero"/>
        <c:auto val="1"/>
        <c:lblAlgn val="ctr"/>
        <c:lblOffset val="100"/>
        <c:noMultiLvlLbl val="0"/>
      </c:catAx>
      <c:valAx>
        <c:axId val="21671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94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183-26E0-4ED0-8029-5FD229FD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A10-F6CE-405A-8F6D-E95505A1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168-0BAD-4070-BA5C-5D240A61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71C-0561-4711-AB0D-A04D3AA3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5F7-B691-486D-9139-21D77331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E4F-F829-46FA-88F7-9DB806F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66D-EC51-4A78-881F-4BD97FD4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BE8-2DC8-47BC-8BA8-07D73251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FF0-68D0-44F9-B96B-6AD1887C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1EE-E80F-4FA0-9DAB-7389AC1C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7E2-15C5-4DE4-866F-0B563F6B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28F-79D9-4688-A752-E7BCCD90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901C4-CCE8-4666-A98F-44B0618490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