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36269"/>
        <c:axId val="46574504"/>
      </c:barChart>
      <c:catAx>
        <c:axId val="48436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74504"/>
        <c:crosses val="autoZero"/>
        <c:auto val="1"/>
        <c:lblAlgn val="ctr"/>
        <c:lblOffset val="100"/>
        <c:noMultiLvlLbl val="0"/>
      </c:catAx>
      <c:valAx>
        <c:axId val="4657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36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510-713C-4EC7-B239-8395BE0B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2D3-7B06-4C62-BFA8-15EB522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DBB-1AF2-4412-A6F1-D0FA4648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7EB-A012-45AF-9135-B9ECF925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DB4-7262-438A-9B5A-A001BF48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779-F91B-4230-90C3-9A273E4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393-3B09-47D0-8A94-952F3938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F5A-C8A3-4CF5-B51F-DD46870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422-2680-4F5C-8E5C-19861B9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614-410F-4214-A488-8D129FFF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B20-3378-4576-AE53-31B400F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8C6-9620-4836-98A2-738207F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6FD2-83ED-466A-8FC6-BDD6D1DE38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