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36578"/>
        <c:axId val="36206516"/>
      </c:barChart>
      <c:catAx>
        <c:axId val="67436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06516"/>
        <c:crosses val="autoZero"/>
        <c:auto val="1"/>
        <c:lblAlgn val="ctr"/>
        <c:lblOffset val="100"/>
        <c:noMultiLvlLbl val="0"/>
      </c:catAx>
      <c:valAx>
        <c:axId val="36206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36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530-A2C7-4BF4-93B4-1F35E102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644-E99F-4A36-B221-CE328FB4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4CB-13FB-42F1-A4F4-A135FA86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8EB-5CD2-4AC5-B2E4-D250BD0D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68D-1610-4A5E-BD89-434E526C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D89-EA55-4888-B9C4-354925ED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B40-E296-4994-86BF-04FC8E82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B08-0264-4BD2-B8F6-CF8F1CC2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09D-55A8-4263-973F-243B3DD4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CB7-3971-4973-9792-E0DDBB68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D27-AF62-48F8-89CA-13357F7A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06E-3014-41C1-9550-FFB27688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F96B6-00C8-41CD-AE99-046676FF69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