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81457"/>
        <c:axId val="8682668"/>
      </c:barChart>
      <c:catAx>
        <c:axId val="13181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668"/>
        <c:crosses val="autoZero"/>
        <c:auto val="1"/>
        <c:lblAlgn val="ctr"/>
        <c:lblOffset val="100"/>
        <c:noMultiLvlLbl val="0"/>
      </c:catAx>
      <c:valAx>
        <c:axId val="8682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81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CE0-58E9-4E8D-9D6F-C63138BD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13F-78A6-4BD9-B5A6-4D488D8D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10E-EE65-4040-BF10-35AC56A9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65F-F1BB-427F-ACCF-290881DF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A65-3387-4564-AD61-142AFDA7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54A-C113-4247-A176-7CB70A21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DC9-FB6B-4342-9B63-4CC348C9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B09-81B8-41DE-B68C-6B014A59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FF7-3E70-4F73-9F27-B2EE35F7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409-CC9C-4F30-A6BE-CBADDFE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50A-0F72-4ED5-8BBE-81972131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A2E-EF18-476F-921F-FBA72CA4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BCE13-CF6B-4432-8841-EDFD93B606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