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35606"/>
        <c:axId val="2133191"/>
      </c:barChart>
      <c:catAx>
        <c:axId val="75935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3191"/>
        <c:crosses val="autoZero"/>
        <c:auto val="1"/>
        <c:lblAlgn val="ctr"/>
        <c:lblOffset val="100"/>
        <c:noMultiLvlLbl val="0"/>
      </c:catAx>
      <c:valAx>
        <c:axId val="2133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35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6991-328A-4656-B8E9-8E40B372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FF8D-2CE3-494F-85CA-E5C39DCF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2E9-BFC1-4CF2-AB24-4B013685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C243-CDBD-46C1-BFF0-F8A4CCFE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1B83-0F77-411F-A255-3212F913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A15-5AA0-41AB-AF4E-F2EECFD9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37A-7DF4-486C-AF46-FCEE4655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179-EE0A-4C26-B23E-144C31A8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BEF0-70F1-47FE-AE82-254EC6AF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E2F-6538-4B96-86EF-61C79AC1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BAD2-25A6-4296-A624-CA8773B3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8B2E-B0D8-420E-8BE6-F044AEC4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01C5E-8EA6-46BF-95FC-C9CF081A17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