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757509"/>
        <c:axId val="20901589"/>
      </c:barChart>
      <c:catAx>
        <c:axId val="827575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01589"/>
        <c:crosses val="autoZero"/>
        <c:auto val="1"/>
        <c:lblAlgn val="ctr"/>
        <c:lblOffset val="100"/>
        <c:noMultiLvlLbl val="0"/>
      </c:catAx>
      <c:valAx>
        <c:axId val="209015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7575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981D-D1DB-47B2-89C9-38AEB0B26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074E-3EFA-4059-8617-21EE50EB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CDBA-7B8F-4064-ABBE-EE914CFBD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9409-FA4C-486E-A082-61433583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1D38-D422-40CF-B972-3B7F22AB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BBC7-CB1E-4291-94BC-2C7AC7D2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21FE-9033-4BBA-A5FA-1EFCB449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C0B7-7CA6-4E16-96A3-29EB2AA5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89CB-3300-4F00-B5A7-94F3C3EF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83D2-1358-4E15-9CB3-8B476AD0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6AC6-5941-4293-956D-974C8847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74B4-0AFC-43A3-8F1C-751F1640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DDDEA-A1E4-469B-BE32-07393607FB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