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87373"/>
        <c:axId val="24690631"/>
      </c:barChart>
      <c:catAx>
        <c:axId val="31387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0631"/>
        <c:crosses val="autoZero"/>
        <c:auto val="1"/>
        <c:lblAlgn val="ctr"/>
        <c:lblOffset val="100"/>
        <c:noMultiLvlLbl val="0"/>
      </c:catAx>
      <c:valAx>
        <c:axId val="24690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87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BD7-5495-44CF-8182-5D1021CD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BB3-97C9-4CB0-8A7A-86234D8B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0A1-8519-44FD-9369-36B485DC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15C-0769-4AD6-A144-F3991E00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AC3-0B29-4845-92DE-6C49FA6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E39-4AB9-411A-B556-C8B36F6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FE1-1182-45EC-ACD4-4F3F8C1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70B-5B92-4CE7-B07D-270FF730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DBE-BDF0-4B87-B4A5-B3C9EDC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E7E-53CC-4563-8AE9-880B2F4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387-DB84-4A7C-B437-A71AE1E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EA0-B9F4-4494-BB28-56BF4DC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EAFE1-C716-4C66-94DD-277583E5C2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