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04137"/>
        <c:axId val="5019226"/>
      </c:barChart>
      <c:catAx>
        <c:axId val="15004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9226"/>
        <c:crosses val="autoZero"/>
        <c:auto val="1"/>
        <c:lblAlgn val="ctr"/>
        <c:lblOffset val="100"/>
        <c:noMultiLvlLbl val="0"/>
      </c:catAx>
      <c:valAx>
        <c:axId val="50192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04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B03-CB2B-40D9-9A1A-020F8D07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51E-4E84-4E59-9975-3D4277C3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AD1-54B3-4EF3-8116-4D9EB7F5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5FD1-0A91-4B58-9217-64DBC9A9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B2A1-ABA2-43F4-9BD3-148737B4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027-7F91-41C4-97DF-656F9770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A30-8BFD-4DAA-B99F-1AA3C2D9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BA1-3DF1-4849-9C88-C8D94E3F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C9AB-F301-4CE2-B692-273EB625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AB36-B137-4122-841E-4B86814D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5F6-AA52-4610-8655-6DEE2251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901-23EF-41A6-9798-B1DA55B9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F2FF1-A49D-4DA5-B810-996069B217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