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352781"/>
        <c:axId val="30782230"/>
      </c:barChart>
      <c:catAx>
        <c:axId val="973527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82230"/>
        <c:crosses val="autoZero"/>
        <c:auto val="1"/>
        <c:lblAlgn val="ctr"/>
        <c:lblOffset val="100"/>
        <c:noMultiLvlLbl val="0"/>
      </c:catAx>
      <c:valAx>
        <c:axId val="30782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527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A1DF-9CC5-43E5-ADD3-97543B43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98A-F31D-44D3-B618-523E4260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8039-174D-4D2F-8129-A5983A07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2B8D-AE52-4B84-A193-1D0C531E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88F-1BFE-4E05-A795-081CF3B8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D43E-C1AB-414A-87E0-BBAA9979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2C0F-B3F4-470E-B1A9-4BA81604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301A-35D7-4700-A1A1-D413E2A2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1A73-6B80-4D75-B8A8-5852F244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CBCA-6C6B-4F90-B055-705BB076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3484-F265-47D5-8F06-621ECAD0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47A3-1DA9-44AC-AACF-7E0A15F5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4B300-8E65-4936-8788-2421C5F19F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