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48360"/>
        <c:axId val="16182"/>
      </c:barChart>
      <c:catAx>
        <c:axId val="88648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2"/>
        <c:crosses val="autoZero"/>
        <c:auto val="1"/>
        <c:lblAlgn val="ctr"/>
        <c:lblOffset val="100"/>
        <c:noMultiLvlLbl val="0"/>
      </c:catAx>
      <c:valAx>
        <c:axId val="16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8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738-F814-444E-B418-D2A3C47F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048-AC6C-4F2D-BFE2-1BC0DC8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165-708A-4997-AFBE-25CE466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C05-DED1-4DD8-9D12-1B407BA8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56B-DD13-4D66-8C81-F8FCDEE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FF0-F885-4DDE-BE02-492C3F5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89F-AC2A-41AD-8B9E-0F28DA0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9C8-70E5-4AE4-8058-8EC15E3C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DD1-1C74-43F9-A805-0F6E861B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12C-A8CC-458F-BAEF-868E6181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A94-A374-4904-B64F-2D7D799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55A-D9D1-43A5-A9DC-F98745E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39B17-B279-4F4B-80CD-CB069C36D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