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50192"/>
        <c:axId val="81376502"/>
      </c:barChart>
      <c:catAx>
        <c:axId val="89150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76502"/>
        <c:crosses val="autoZero"/>
        <c:auto val="1"/>
        <c:lblAlgn val="ctr"/>
        <c:lblOffset val="100"/>
        <c:noMultiLvlLbl val="0"/>
      </c:catAx>
      <c:valAx>
        <c:axId val="81376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0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F704-26FE-4936-8B98-A668D406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526-78FD-4A28-A4F3-E08CE6A9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CE08-1AA5-4A1A-8692-8F32A1208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E74-87EC-4B40-858A-7D0A0591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A42A-E89A-4AA9-A866-BA4855BC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CEA-D59E-48BD-84C8-07890200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781-B0F7-42D6-BB78-87E23EED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031-66A3-4705-A21D-EAFCC7D8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C9D-4C98-4DCD-B6ED-8F23B302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994-6AC9-471B-A96F-59B6E581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73E-A920-4D67-8AC5-E4E456EC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FF8-E38A-4AD4-92AE-87CDBE1D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21CE7-F809-4E0F-99A9-41CC80DB7C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