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47715"/>
        <c:axId val="44246550"/>
      </c:barChart>
      <c:catAx>
        <c:axId val="71647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46550"/>
        <c:crosses val="autoZero"/>
        <c:auto val="1"/>
        <c:lblAlgn val="ctr"/>
        <c:lblOffset val="100"/>
        <c:noMultiLvlLbl val="0"/>
      </c:catAx>
      <c:valAx>
        <c:axId val="44246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47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8E8-C33F-4D4B-A45B-18FB92CE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3D5-40B8-4BB9-8634-0EBB38F2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150-B46C-4928-9D1D-590C2B3F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5C6-2685-403E-A1ED-765DBB79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D8F-5A70-4A8E-8CEA-9943C1DD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ACF-DFBB-4EB5-9D68-7AD63AB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C09-31D9-4DF8-BCCA-4119C377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E20-F09E-47F1-A6CF-B57AAFC0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FF1-E3EB-4209-8837-0A22FFC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C7C-14C6-43FC-A3EC-9675278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96C-5314-4DC1-926A-980D2EB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4C5-DAD4-40C7-8D1F-301B10D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4528-EECA-47AC-99F6-DF1AE131A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