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91141"/>
        <c:axId val="66504663"/>
      </c:barChart>
      <c:catAx>
        <c:axId val="16591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04663"/>
        <c:crosses val="autoZero"/>
        <c:auto val="1"/>
        <c:lblAlgn val="ctr"/>
        <c:lblOffset val="100"/>
        <c:noMultiLvlLbl val="0"/>
      </c:catAx>
      <c:valAx>
        <c:axId val="66504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91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0AA-B504-4E11-B585-85C6FE8F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C87-D92C-4616-83BB-85A1D3B0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C9C-2D95-4C99-B5F2-785FF00A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4FA-2382-4650-BE3A-CF1DE0DA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E59-8EFC-4A0F-A9A8-97021A17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DF5-FFD7-46E3-86A0-7AFF6B68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9A0-4CEF-4B0C-B8AE-33444E97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3B4-36AF-434D-89F3-56C5146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855-2D81-4766-84DD-A9B3634B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145-5262-475D-B01F-7AE38C03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EBD-51BD-45E4-B307-B591F73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F54-61BC-4A14-81DE-AF31D00C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F53C8-32C3-4031-A520-91309CACF9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