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40884"/>
        <c:axId val="6880107"/>
      </c:barChart>
      <c:catAx>
        <c:axId val="74740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107"/>
        <c:crosses val="autoZero"/>
        <c:auto val="1"/>
        <c:lblAlgn val="ctr"/>
        <c:lblOffset val="100"/>
        <c:noMultiLvlLbl val="0"/>
      </c:catAx>
      <c:valAx>
        <c:axId val="6880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40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F6D-74F4-4184-8A4A-FB8F6ED8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C3B-137E-4EAB-A13C-77C8D54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660-4DEC-43C5-AE7C-7ED3E405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07C-5067-46DA-9858-06A1A6DF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51B-8F31-4E2A-A7D6-5FF4E48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097-7CE1-4168-BFA0-A8180DCC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610-1D7B-4DC8-8807-ACCD7A1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FDE-3F5E-4865-881E-E83FBDC4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840-B424-408B-8988-8349295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81C-10E4-4AF6-BAD7-289E76E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269-F899-4C5A-A09A-01BBF39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7B4-8A77-48CB-9C08-A6BE8DE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CE43B-7533-4210-9444-89F49E503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