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9568"/>
        <c:axId val="50444764"/>
      </c:barChart>
      <c:catAx>
        <c:axId val="9059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44764"/>
        <c:crosses val="autoZero"/>
        <c:auto val="1"/>
        <c:lblAlgn val="ctr"/>
        <c:lblOffset val="100"/>
        <c:noMultiLvlLbl val="0"/>
      </c:catAx>
      <c:valAx>
        <c:axId val="50444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9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B7E-89B1-4E62-A220-A1EBC9A7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A1E-76C4-4DB0-868B-FB6D4207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164-944E-4575-B519-84E1BE61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35D-A3AD-454C-9086-3856FDF8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67B-EE5D-4C04-9DD9-9B4D3763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B35-4847-4056-B626-3AB3009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395-E873-42E3-A396-1A29FAA9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D5A-0ADC-480B-B2F3-1F12FEB5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E30-2324-4E20-8414-E54AE514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083-A744-4C6F-A1E1-C9CABD6C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A21-0FA6-41D5-92B2-34F104A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721-4F18-41EE-AE95-D002CCD8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E88C6-6F2E-44B9-B16E-8E98C6552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