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29029"/>
        <c:axId val="23663269"/>
      </c:barChart>
      <c:catAx>
        <c:axId val="809290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3269"/>
        <c:crosses val="autoZero"/>
        <c:auto val="1"/>
        <c:lblAlgn val="ctr"/>
        <c:lblOffset val="100"/>
        <c:noMultiLvlLbl val="0"/>
      </c:catAx>
      <c:valAx>
        <c:axId val="23663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290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C7D-6D0B-43B3-ADEF-CC2E7A5C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75D-3D7E-4DCC-9D63-DE48DA88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82C-1DE2-40D7-9B51-4DE974C0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9D6-CF0E-4A82-A6DB-DA349A69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2B1-9BAF-4C18-84E2-67B0AA51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778-1D87-40CB-AD09-34D6933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F8A-3D32-4A0B-9511-F7557545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A30-04B5-4107-88EC-10DB78E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9C1-CA76-4FFA-A26A-3556A56E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D4D-96A9-438F-843C-9C01AFE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D92-8426-42E7-9E80-67DA7A0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3828-C130-463E-8007-DFA42531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C78F-7628-4EA9-8043-8CC9E79ED2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