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57137"/>
        <c:axId val="70771377"/>
      </c:barChart>
      <c:catAx>
        <c:axId val="76057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71377"/>
        <c:crosses val="autoZero"/>
        <c:auto val="1"/>
        <c:lblAlgn val="ctr"/>
        <c:lblOffset val="100"/>
        <c:noMultiLvlLbl val="0"/>
      </c:catAx>
      <c:valAx>
        <c:axId val="70771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57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5D2-8521-4E5B-A9DC-1686DE99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F45-7C54-4A80-8C2E-74E7398E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505-1AFE-4824-AFAB-F784025B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F15-E429-4A71-A27C-245AA2F6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CDA-3A18-4C44-B1BA-1AAA6433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887-414D-4EF3-9BA2-3A010F96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5B0-9BB6-4A50-9013-6E9204C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149-FF58-422F-AB31-80DB9C2F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249-2924-4D02-AA06-931309B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E3D-8775-4DA4-9D0C-CD114D83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3D3-5454-4EDB-949D-754BBCC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B9D-B54A-45DF-BF86-BBF41F2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4807B-6FB8-4FBD-97FC-92C2D45A06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