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5699"/>
        <c:axId val="14506340"/>
      </c:barChart>
      <c:catAx>
        <c:axId val="37165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06340"/>
        <c:crosses val="autoZero"/>
        <c:auto val="1"/>
        <c:lblAlgn val="ctr"/>
        <c:lblOffset val="100"/>
        <c:noMultiLvlLbl val="0"/>
      </c:catAx>
      <c:valAx>
        <c:axId val="14506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5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0E5-0B62-496A-BAB8-63C4287E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511-2802-45BF-85A3-C9B62930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678-7807-4D0B-A930-5A453280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6E4-C931-48E6-AA3D-45188A3F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51B-8561-406C-96FE-17706E9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F98-8344-4C32-A49D-FF2183B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B0B0-514D-433A-8DEB-88B87556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7B6-2045-4C7E-ACDF-02EB05E3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E81-219E-4809-AA94-8E14C09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37D-B758-43EF-9259-1B048F9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28B-5EDD-411C-ADB1-B041C7F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E48-4FE8-41B7-9CFF-545DAD8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82037-50B1-4A8C-AFD7-C6F9CDC83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