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55097"/>
        <c:axId val="84915648"/>
      </c:barChart>
      <c:catAx>
        <c:axId val="36355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15648"/>
        <c:crosses val="autoZero"/>
        <c:auto val="1"/>
        <c:lblAlgn val="ctr"/>
        <c:lblOffset val="100"/>
        <c:noMultiLvlLbl val="0"/>
      </c:catAx>
      <c:valAx>
        <c:axId val="84915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5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14B-116F-40A6-BA41-AA4D9395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A10-126F-4D6B-83D6-4030D318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86B-E20D-44B8-8EB9-ADA256A1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0B5-7434-4746-B2C6-3DA85CF9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84B-E3AA-4E50-B6F9-38DD2DF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0F3-F185-4015-96C7-CB9338B9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C2A-33F2-4180-A317-C89F9C10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2B9-7EF0-46EE-8AD1-32B80C1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3AC-A788-4AEF-B8AA-6449C098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862-AD9E-4C45-84BE-CB0491E8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11F-920D-4A40-BD93-6145FCE5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7E3-6046-4310-9A87-E70C3A4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09CA7-0425-4E95-8C34-69D3D44F40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