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16910"/>
        <c:axId val="15803333"/>
      </c:barChart>
      <c:catAx>
        <c:axId val="67916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03333"/>
        <c:crosses val="autoZero"/>
        <c:auto val="1"/>
        <c:lblAlgn val="ctr"/>
        <c:lblOffset val="100"/>
        <c:noMultiLvlLbl val="0"/>
      </c:catAx>
      <c:valAx>
        <c:axId val="15803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16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B7F-D5A2-48F7-B89F-B7D25923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E2A-2E17-4975-8B46-8AB6B345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FC0-9A6A-4E5C-8459-91DE3392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064-4F7F-4973-A398-93A0661C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FD8-6936-4934-A442-225D27FE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830-35ED-4B85-B6E2-C5B9FD4A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240-7D39-480A-B829-F5DE9E96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6B3-DE2D-48D2-B14D-9B6E11C3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A4D-3753-4BAE-B868-2549F337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6DD-DC02-4F05-83E9-A5F625DB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166-BD1E-4931-B877-9EC60D65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111-ECB8-41E2-A9B7-6F9CF67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E92AE-4070-4BA8-A685-B2104854A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