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42143"/>
        <c:axId val="54059357"/>
      </c:barChart>
      <c:catAx>
        <c:axId val="237421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59357"/>
        <c:crosses val="autoZero"/>
        <c:auto val="1"/>
        <c:lblAlgn val="ctr"/>
        <c:lblOffset val="100"/>
        <c:noMultiLvlLbl val="0"/>
      </c:catAx>
      <c:valAx>
        <c:axId val="54059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421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1C1-2AE0-4ABA-9AD1-BE5A8549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6EF1-8BF1-4928-8C3B-020731BB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6E7-028F-4579-8728-3674F25D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FCC2-4259-4738-B03F-BB35F544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E84-CD1B-4D66-ADEA-581F40BA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E5E1-E981-4AFD-AD1A-D7D2CD70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E1F-D45D-4EE3-BB6B-459E7098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75F-98DC-4906-878A-5E7C2EA3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289D-FDC8-48F8-B53C-4F09B089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B377-0A89-4B87-A7B8-02332025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B2BA-6985-4492-9878-0524C5BA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A4D-449A-48ED-9519-FB3A7664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1BA94-AFE0-469C-8E90-F55EF57D92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