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25095"/>
        <c:axId val="93358752"/>
      </c:barChart>
      <c:catAx>
        <c:axId val="27325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58752"/>
        <c:crosses val="autoZero"/>
        <c:auto val="1"/>
        <c:lblAlgn val="ctr"/>
        <c:lblOffset val="100"/>
        <c:noMultiLvlLbl val="0"/>
      </c:catAx>
      <c:valAx>
        <c:axId val="93358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25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FDB6-7423-4EEE-B67D-40E224A9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8DE-D22B-4EE2-B3B7-8293C703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30A-F40D-4B75-80F9-4AC5D13C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2924-ACDF-4134-A4A9-FC374BF4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ABE-9EF8-49D8-8E8D-C409D07D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C860-53BE-4EFF-91E0-CFBA78A4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071-F1C2-4B40-854B-37A6569E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8ABD-2436-414A-9AF1-F396D84F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F31-0540-42EB-887A-B6E55342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747F-5A8F-4331-943E-B4AEBA5B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287-7541-45CC-854F-5A6CE047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DC6-FD7F-43A5-BE72-81E50AE0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1E514-C1C5-491F-8D1E-610E486146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