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02732"/>
        <c:axId val="22554301"/>
      </c:barChart>
      <c:catAx>
        <c:axId val="8260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54301"/>
        <c:crosses val="autoZero"/>
        <c:auto val="1"/>
        <c:lblAlgn val="ctr"/>
        <c:lblOffset val="100"/>
        <c:noMultiLvlLbl val="0"/>
      </c:catAx>
      <c:valAx>
        <c:axId val="22554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617-E954-481F-B821-8EDFAC68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623-EDDE-4DFB-8F50-5B38C0FF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2D0-3967-4D78-8747-998DC50C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85E-0329-451B-902F-3706AF7D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62E-D57D-4B89-B930-56A4533C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065-54A8-4078-B902-B8E6EE7B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FA-28D6-4935-95AB-C19E9F3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AEA-8657-47B7-B96C-BC75793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A5A-C892-400A-B7AB-615F59D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565-5C27-408A-AB60-A6A6ADE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CEB-E8AC-4E2A-9A0B-813FEFD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791-B3D9-4C9B-A0F2-D5162BF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AA7A9-C110-47FB-A983-ADEEECC7F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