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36097"/>
        <c:axId val="13291070"/>
      </c:barChart>
      <c:catAx>
        <c:axId val="45436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91070"/>
        <c:crosses val="autoZero"/>
        <c:auto val="1"/>
        <c:lblAlgn val="ctr"/>
        <c:lblOffset val="100"/>
        <c:noMultiLvlLbl val="0"/>
      </c:catAx>
      <c:valAx>
        <c:axId val="13291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36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D23-15B6-4157-BD4F-D136F181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017-D379-4147-B770-1D056A4D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ADB-7D11-4C8E-A629-5337A2D1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410-A760-424F-BCF9-F1D90968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0CC-08DA-4A93-9D03-1D264D2B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37D-8E16-4108-8641-26B34792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063-16EE-439A-BA7F-8805B31A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A2C-B90D-455C-984A-E4963359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EAE-0E8E-44BB-ACAF-1CCC19CC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F92-EB27-49A9-A127-661114FD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D8F-E5BE-422D-8790-758A953E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218-0BDB-4B32-BCDC-806F3F17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E56AC-4594-4F8E-8729-62A5D58C5C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