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52281"/>
        <c:axId val="46512125"/>
      </c:barChart>
      <c:catAx>
        <c:axId val="39752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2125"/>
        <c:crosses val="autoZero"/>
        <c:auto val="1"/>
        <c:lblAlgn val="ctr"/>
        <c:lblOffset val="100"/>
        <c:noMultiLvlLbl val="0"/>
      </c:catAx>
      <c:valAx>
        <c:axId val="46512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52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EB2-E2DA-4015-9C83-9932F653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F07-906D-4B10-ACC5-AD449A00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CC5-ACC9-4355-832A-9AD72C5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89C-66D1-43C5-A730-3AED1445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B0F-9651-48BC-9409-C490CD9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3F8-FE2B-4BCC-87BB-1C0634F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CFA-CB23-4926-984F-D6C2388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157-B2C1-4D1B-A23A-9F0DF4F5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873-12BE-4E4E-B088-81B9016D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C05-CB95-43F7-A6FA-3ED3E13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EDB-BC18-4516-83E8-9BDB85A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15B-7096-49DE-A58B-82BE511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3AB4F-699C-43D8-8630-42AF11952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