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67471"/>
        <c:axId val="85464901"/>
      </c:barChart>
      <c:catAx>
        <c:axId val="54267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64901"/>
        <c:crosses val="autoZero"/>
        <c:auto val="1"/>
        <c:lblAlgn val="ctr"/>
        <c:lblOffset val="100"/>
        <c:noMultiLvlLbl val="0"/>
      </c:catAx>
      <c:valAx>
        <c:axId val="85464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67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9B6-BE84-4B03-B26E-B12050B7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C5D-674C-4417-A3AC-04F92056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CEB-8EE1-441C-84D8-5E19C976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F51-0824-4048-890A-7F14D12E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213-40C9-4F88-8BA1-0004487A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300-EF99-421F-A965-C8DD2D22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D1C-13F7-4D15-9E07-C0B5789A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EB0-8EA7-4994-B64B-0C47C4D6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A18-5B34-49C4-B22B-311AAFD1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4BF-13A1-4DB0-A3F5-4B8DD78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7F7-31B5-4BD6-8FD9-F2CE5819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026-EE3A-4586-B09B-F1891FC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BF091-2B4B-4AC3-BEC0-06BAC0BEE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