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76169"/>
        <c:axId val="87725708"/>
      </c:barChart>
      <c:catAx>
        <c:axId val="38476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25708"/>
        <c:crosses val="autoZero"/>
        <c:auto val="1"/>
        <c:lblAlgn val="ctr"/>
        <c:lblOffset val="100"/>
        <c:noMultiLvlLbl val="0"/>
      </c:catAx>
      <c:valAx>
        <c:axId val="87725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76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1330-8547-41A2-B396-6CD46E87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3DB-4313-4202-AB62-3C8E6E74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909-403C-4FFB-878B-9A2E71F5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101-AEC8-4BC6-9F69-2FA17062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997-E514-4137-95E9-AE5A8A3D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E179-AB02-4AFC-8BA6-6EF94D7F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EA4-C5C4-4A07-9779-822283B2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9D8-DB57-4082-9E4E-A370E2A2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8FA6-462B-4423-908B-52674CED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044-BE74-4C1C-A0D4-14C1A601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686-1652-4FF9-8749-C6FD6A37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912-CC81-481F-9B77-CFF3F6C6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C9CD9-A73C-4598-8F60-5205CF7E3F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