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256384"/>
        <c:axId val="14442064"/>
      </c:barChart>
      <c:catAx>
        <c:axId val="682563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442064"/>
        <c:crosses val="autoZero"/>
        <c:auto val="1"/>
        <c:lblAlgn val="ctr"/>
        <c:lblOffset val="100"/>
        <c:noMultiLvlLbl val="0"/>
      </c:catAx>
      <c:valAx>
        <c:axId val="144420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2563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004E-E9A8-457E-8208-76E6D4886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4C9A-351A-4754-AACB-07D68F8A0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5FEA-548B-4F61-88C2-0DD459385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463D-9F7E-4205-87B1-D6E5AFF01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81B8-87CC-44A6-B60F-6F498257A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F96C-716F-481E-90D3-DE388F06E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22FC-8733-4878-8371-BCE452DB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42B0-FACD-4DEC-9A2B-0D9DCCB51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BAE3-840F-4627-8DF0-9D780B423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E1BA-0F36-4B03-9EC9-538CA48F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5C5B-624D-41CD-A94B-6C7BE5E2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A66C-04BB-4698-9001-4458786C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551C0D-EEDE-4CD5-B6F7-244F3611A6B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