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26320"/>
        <c:axId val="34667764"/>
      </c:barChart>
      <c:catAx>
        <c:axId val="39126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67764"/>
        <c:crosses val="autoZero"/>
        <c:auto val="1"/>
        <c:lblAlgn val="ctr"/>
        <c:lblOffset val="100"/>
        <c:noMultiLvlLbl val="0"/>
      </c:catAx>
      <c:valAx>
        <c:axId val="34667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26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FB3-5DC2-4615-B2A4-FB933A2D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402-E43D-4293-BBFC-69DC86E6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C4A-7AF2-44FB-80E8-2DFB926E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605-E192-43E5-A0B8-76827D60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EA2-A323-483A-A03F-77067C5C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0EF-1EDD-4198-8E58-798BD0AA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B9C-2293-4D29-8F49-7D3F5078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C6E-621A-4331-A31E-70093EE6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044-A01F-492D-A9EF-8D828AFB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CAA-4BF8-4116-AC82-724903E6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381-6EA0-4A82-9E08-2D85403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A0E-8137-49B6-8E8B-A32909AD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B711B-A0EF-4FF8-B6C6-1EA18BA02F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