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771455"/>
        <c:axId val="97236112"/>
      </c:barChart>
      <c:catAx>
        <c:axId val="187714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236112"/>
        <c:crosses val="autoZero"/>
        <c:auto val="1"/>
        <c:lblAlgn val="ctr"/>
        <c:lblOffset val="100"/>
        <c:noMultiLvlLbl val="0"/>
      </c:catAx>
      <c:valAx>
        <c:axId val="972361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7714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EC00-D0D8-409E-8F6D-E16A617D0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5DAD-D4DA-41F0-AAF1-72C510C3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E154-2555-465E-9BA8-D1EE44E65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BF71-F58A-4EC8-9418-6006EF245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9DDB-F991-4A70-8890-DF89ECDA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3578-3899-410D-8F70-001757F0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1D73-2069-4297-8981-9F4AD445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4EC2-E2BE-4CD0-908F-429F5225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9D08-0C52-4CED-856F-9FE49942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AD5D-DFB1-426D-8569-63D4AB59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2F2B-D151-49DB-9A8B-3657E408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AF36-AE2B-4155-8412-16F187CE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0C6A1A-6415-41F7-A92B-5DC961FB75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