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53982"/>
        <c:axId val="98447384"/>
      </c:barChart>
      <c:catAx>
        <c:axId val="71453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7384"/>
        <c:crosses val="autoZero"/>
        <c:auto val="1"/>
        <c:lblAlgn val="ctr"/>
        <c:lblOffset val="100"/>
        <c:noMultiLvlLbl val="0"/>
      </c:catAx>
      <c:valAx>
        <c:axId val="98447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53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550-A6E4-4F5F-98F5-899FB6A8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9AF-DF03-436C-9F88-CA9787B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24D-5B60-4659-9587-1DDE1104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682-47AC-4584-93AD-BD10E005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878-3D4C-4B68-8C48-39819BA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3A8-CE80-4247-8D48-F7EE5222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FF5-B313-40E6-ACDD-8E16085E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E7C-CC7E-428E-8A40-67E33EC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405-FE44-484A-9FF7-54DD2806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A11-7080-46E9-A309-45DCAB8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BD2-81EE-43E2-A23F-D679743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D89-37C5-4E8F-8E78-98D494C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556B1-C1C0-4FE5-B7A1-B1B084DB48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