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83532"/>
        <c:axId val="25002012"/>
      </c:barChart>
      <c:catAx>
        <c:axId val="30383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02012"/>
        <c:crosses val="autoZero"/>
        <c:auto val="1"/>
        <c:lblAlgn val="ctr"/>
        <c:lblOffset val="100"/>
        <c:noMultiLvlLbl val="0"/>
      </c:catAx>
      <c:valAx>
        <c:axId val="25002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83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D17-157B-45B4-8144-328482EC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9DC-4BF2-43B9-9ED4-35087DCD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96C-1F47-4A8C-AE2B-74004C20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944-7735-48EC-B1F1-C777890F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09E-9B85-40F1-A056-CE6B32A9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5AA-75D5-4A78-AF36-4185BDBD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2CA-5A1E-4335-AAF5-8A4E6A49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6AA-7B96-44D7-AB58-63526F9F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B5E-CC70-4888-9EE8-830D0A90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E22-BF6A-4803-80C4-B70C761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E14-1889-4135-AE84-9E486630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9F7-D5D4-435B-9954-E699F76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B595B-DA6F-4BF5-BE87-AE1AFAB211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