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94538"/>
        <c:axId val="99647016"/>
      </c:barChart>
      <c:catAx>
        <c:axId val="26394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7016"/>
        <c:crosses val="autoZero"/>
        <c:auto val="1"/>
        <c:lblAlgn val="ctr"/>
        <c:lblOffset val="100"/>
        <c:noMultiLvlLbl val="0"/>
      </c:catAx>
      <c:valAx>
        <c:axId val="99647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94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AA8-64B7-49B9-AF77-E32314D0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F6E-B05D-4FC5-8620-BD3F281F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7E6-6F75-478B-A5EC-F32FE85A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7A0-06BF-41E0-A325-47CBD0BA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416-3672-4C45-A9AF-D887107E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0AD-276C-465A-83E2-E2CBC05C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1D6-7C5B-40F1-8FD6-36E7154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2D9-DD75-4BC6-9D59-56CB94B0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C3E-09CE-4A4C-A608-0863169A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1D4-5373-4638-8209-36D5EE13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C02-0AA9-4F3D-AE2D-C8542652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68E-8DDE-45F7-BC9D-516F258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9F9AA-8B38-42C2-B4A1-46C49BCB4A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