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093287"/>
        <c:axId val="72059337"/>
      </c:barChart>
      <c:catAx>
        <c:axId val="310932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059337"/>
        <c:crosses val="autoZero"/>
        <c:auto val="1"/>
        <c:lblAlgn val="ctr"/>
        <c:lblOffset val="100"/>
        <c:noMultiLvlLbl val="0"/>
      </c:catAx>
      <c:valAx>
        <c:axId val="720593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0932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ED82-F3D0-4EE0-B84D-9081A106B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808A-040C-42CA-B777-A7DBF0F06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6864-2346-4D8A-991C-F5F48CE6D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84DD-AB22-47CF-BBFC-69CC10AAD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6EC6-AF9E-472D-8D6D-C51AFCA1B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C787-F16B-4ACA-A0BB-FFAA56A80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0453-46B3-4277-AE55-9EAB8B0D7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3AC2-7136-468B-890C-ECF039318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962E-A946-46E8-A7FA-AD77B191A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F257-D5DD-4DB9-AEE8-D6D66D8F1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94D1-1C97-451A-A5EF-9F2741A49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1774-641F-4152-897A-9DCC02C57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1A29A0-3A93-4AC3-9841-3772759E405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