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67791"/>
        <c:axId val="72482690"/>
      </c:barChart>
      <c:catAx>
        <c:axId val="42667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82690"/>
        <c:crosses val="autoZero"/>
        <c:auto val="1"/>
        <c:lblAlgn val="ctr"/>
        <c:lblOffset val="100"/>
        <c:noMultiLvlLbl val="0"/>
      </c:catAx>
      <c:valAx>
        <c:axId val="72482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67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1D2-6FA7-49D7-990D-C63816E8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5B2-4C31-4C27-8C10-DC4FA5F3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9416-2B38-48C6-927E-B98D432B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606-A41E-44E1-9901-1CDF4D4A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13D-4292-4FDF-BC11-BFA06F27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F89-14FB-4F92-B959-FBFA48ED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777-98FA-4720-A1E4-ABEE1A61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7D4-CAF3-4099-AADC-1BD78CF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2B8-BDA3-4ACD-8C94-125FDD52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BB7-805C-458F-923A-022E0132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63F-77EE-4D7A-84EA-A12342D9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094-A780-4BCC-A4C8-3FFB68B8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AF059-8672-4F83-BF6B-31A057F079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