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46672"/>
        <c:axId val="82275636"/>
      </c:barChart>
      <c:catAx>
        <c:axId val="98246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75636"/>
        <c:crosses val="autoZero"/>
        <c:auto val="1"/>
        <c:lblAlgn val="ctr"/>
        <c:lblOffset val="100"/>
        <c:noMultiLvlLbl val="0"/>
      </c:catAx>
      <c:valAx>
        <c:axId val="82275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46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2D3-81F0-447B-8230-0C1286A1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C4D-CFF6-428C-B860-3D227528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03B-D9F0-49ED-A412-15774C24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A40-95D2-4D34-B152-1B092CFB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816-0A28-4231-A823-AC768B19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EF1-A194-4749-B688-14A793B3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2F6-6BF4-4151-ADCA-AB893B1E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8DE-E6DB-4157-B9CF-10B81E99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637-170B-4957-A1AE-7939A670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C68-B337-46E6-960C-5851CAA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CE2-27B9-4F35-AE9B-E6D0349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3C8-CBB7-4687-B9BC-832E2D18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D2348-15C6-4563-ABFA-4669816F34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