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77925"/>
        <c:axId val="64580345"/>
      </c:barChart>
      <c:catAx>
        <c:axId val="707779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80345"/>
        <c:crosses val="autoZero"/>
        <c:auto val="1"/>
        <c:lblAlgn val="ctr"/>
        <c:lblOffset val="100"/>
        <c:noMultiLvlLbl val="0"/>
      </c:catAx>
      <c:valAx>
        <c:axId val="645803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779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B3F-9C20-4A40-8A93-CFB8B60B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1A5F-8D90-4FF1-BB2F-5BB2E195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F49-0E25-439C-9943-BEB1BF18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CF2-70A6-469D-B6E3-F8752093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3813-8A3D-43FF-B50B-C9A31ED6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8910-B751-4B89-B948-0B8DDC4C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3F6-4271-40F0-AE79-CA6EBC3F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29B6-066E-4605-AF58-63FC0A26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593-752A-4EAA-A741-2E20CD2D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A8C-EDB2-4693-8E02-CF3EE4AD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9578-52F3-4F4F-8714-618A731E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2F3-6052-4F9F-A861-5CB8AA1C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5A0EB-D743-44E3-A1E5-6D05A265A4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