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43255"/>
        <c:axId val="40475602"/>
      </c:barChart>
      <c:catAx>
        <c:axId val="81343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5602"/>
        <c:crosses val="autoZero"/>
        <c:auto val="1"/>
        <c:lblAlgn val="ctr"/>
        <c:lblOffset val="100"/>
        <c:noMultiLvlLbl val="0"/>
      </c:catAx>
      <c:valAx>
        <c:axId val="40475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43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592-4A39-4D63-AB1B-51F1C53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53E-6BA8-4B1E-91D4-1C0B38FA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CAB-0681-48B3-B54E-77F26280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382-348A-4AEF-BF42-ACF06645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D2F-84DF-48EA-969C-1A9FB196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7C4-4360-44F9-924E-49D2EDD3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4CF-AF7E-4083-BA2B-002C060C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E19-ABF6-4F8D-8065-2E05F81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2FC-5A78-42B3-B5EB-E777A916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BB5-4C60-4A4B-97CD-55EBE44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743-6AD9-4720-AC1A-A051D65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C65-FE7E-40CE-8480-68B490D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E199A-3B59-4209-B1F8-E3361EA32C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