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85033"/>
        <c:axId val="99059403"/>
      </c:barChart>
      <c:catAx>
        <c:axId val="40285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59403"/>
        <c:crosses val="autoZero"/>
        <c:auto val="1"/>
        <c:lblAlgn val="ctr"/>
        <c:lblOffset val="100"/>
        <c:noMultiLvlLbl val="0"/>
      </c:catAx>
      <c:valAx>
        <c:axId val="99059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85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75B-4AAC-4E80-9DD8-5A6CD8FC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977-90AA-48EE-B05F-A18ADD11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51F-1C9B-44A1-9BE9-1B0F4F98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8C2-2F2E-4A1A-9F3E-2A04EC2B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FFF-689D-49D1-9803-4CF9917C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B89-FF15-4C1E-81DD-889EB8EF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555-0727-43A4-9F23-418618FB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7DB-1FE9-4EF6-80BD-9D83D577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AD6-B3C8-4787-802B-538A1F8C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872-6A2C-4D6E-B567-E41A3EA2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435-0538-4EE9-ABC1-A613C89A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8AC-AA58-4BC5-A917-C305A535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31C34-EC2A-4869-B708-DC9CD06F8A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