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30417"/>
        <c:axId val="87636625"/>
      </c:barChart>
      <c:catAx>
        <c:axId val="15730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36625"/>
        <c:crosses val="autoZero"/>
        <c:auto val="1"/>
        <c:lblAlgn val="ctr"/>
        <c:lblOffset val="100"/>
        <c:noMultiLvlLbl val="0"/>
      </c:catAx>
      <c:valAx>
        <c:axId val="87636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0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402-32DF-4B60-A45F-733710C4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FFE-BEEF-4A02-AB07-E4C63B0B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D81-F22A-4167-8163-F63E8F67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162-4C7A-4C07-9AE1-D9EC453E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E2A-C11B-409D-B61D-C014CAC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E95-295C-4C12-B085-38E7A9D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68E-7638-4357-91AF-B0042177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6B2-772F-42A8-A03D-0FD2A1C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8C4-B216-41E4-AEF3-A29B11B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C93-2AB8-46DC-A2FF-2593204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DAC-0D2E-4A4F-ADDA-5660ADA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033-8215-432C-B51B-0CA43D7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A535-D5F8-4A88-9E71-8669CEAF9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